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37120" y="0"/>
            <a:ext cx="316368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3880" y="719280"/>
            <a:ext cx="4794120" cy="359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07280"/>
            <a:ext cx="316404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37120" y="9107280"/>
            <a:ext cx="316368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B60F-DC5F-4256-8FC0-4C54A4B01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C805-787E-4867-9B95-97D2879B9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5333-CAEE-46D4-801D-EE9631669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F3A9-51BA-4A08-9B14-A117472D7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0A81-91CF-4ABC-919E-FFD9FD437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F63A-6226-4962-8803-A6A71CA63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1BF4-F2FA-4EAA-B83F-B2A280255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D750-94B3-4D38-A3A3-91998EC97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7480-3B46-4EA2-9740-B86077CDC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569-5A51-4E24-95CA-B603725A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2EB-BF75-4763-A68B-DA6AA5A6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71E-2F45-4BAE-A45A-419F52F7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04E-CB0C-4B00-9912-249D5BC7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8B5-D5EE-497B-89FC-2279DAA8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067-183C-4351-9845-46D22C64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F69-7D93-43E5-9BFD-CE8DF5C7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44D-3315-4BCC-8938-AA3E90FF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621-0287-4D51-887C-056D22BA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DEF3-8CDA-4148-BE7A-D0B02CDD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B77-6062-4ECE-8771-308F3B0A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369-8AFB-4522-97EA-B1B4A39E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38DB-8683-4C3B-B5F6-003B9E95A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Chapter 9 Review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7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One through three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l divi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from cause to effect, or from effect to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ologic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according to time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emonic or gimmick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according to a special memory device, such as alliteration, rhyme, or initial letters to spell a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Four and five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-plan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a variation of problem-solution organization that (1) establishes a need or deficiency, (2) offers a proposal to meet the need, (3) shows how the plans satisfies the need, and (4) suggests a plan for implementing the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-solution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a rigid organizational pattern that establishes a compelling problem and offers one or more convincing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Six through eight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-con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according to arguments for and against some policy, position, or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according to the geography or physical structure of the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according aspects, or subtopics of the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The 4-S strategy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9) What is the “4 S” strategy?  Explain why this strategy is effective, and describe each ste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signpost th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state th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support th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summarize th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y it is important: the 4 S strategy provides a basic template for organizing any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Pro-con or pro-con-assessment?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) Why would a speaker change from a pro-con to a pro-con-assessment division for their speech? Explain your answer thoroughl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hoose to defend the stronger position (pro or con), then your speech becomes pro-con-assessment.  Pro-con is more appropriate for informative speeches; pro-con-assessment is more appropriate for persuasives spee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Transitions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) What is a transition?  Why are they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ansition is a statement connecting one thought to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ausal, complementary, chronological, and contrasting transitions.  Pick a topic and give examples of each type of transition for that top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l: emphasizes a cause and effect relationship between two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: adds one idea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ological: shows how one idea precedes or follows another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sting: shows how two ideas di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Organizing question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) What is an organizing question?  Why is it importa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rganizing question is one that will help you determine what ideas and information are necessary to develop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6:18:44Z</dcterms:created>
  <dc:creator>nuhs</dc:creator>
  <dc:description/>
  <dc:language>en-US</dc:language>
  <cp:lastModifiedBy>Ameena</cp:lastModifiedBy>
  <dcterms:modified xsi:type="dcterms:W3CDTF">2008-11-07T22:26:29Z</dcterms:modified>
  <cp:revision>9</cp:revision>
  <dc:subject/>
  <dc:title>Chapters 9 and 10 Review</dc:title>
</cp:coreProperties>
</file>